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11762-63C8-47E1-AE77-16D090A96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C481-2DF2-462C-9123-E6A50B0D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49C6C-8072-4ECB-88E2-79C5480B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4DA89-97AB-41E0-906E-3AD7D236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F0EAC-BD75-4D22-B149-CDD5A6D4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5B36-AD9D-44EF-B477-1D3D4414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950B-ED03-4AE0-A727-32B859C7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8E80-1C62-4CE8-A527-27DB45A26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04F8-E681-476E-AAC7-BB90DA8B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DC7A-7579-4062-B08A-9075DA8C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32B5-E431-4A0A-B6A6-9CA492FF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49A8-0BDF-49B6-8FD6-554B87F18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FD24-6B02-49F9-BBF8-4F4076288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ground Pla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nie Alma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 about the area, perimeter and circumference of the shapes all around us.  Student groups become playground designers and design a new playground area for the soon to be renovated elementary school in town.  Each group has a budget and specifications for the project but the actual design has several options to choose from and allows for plenty of creativity.  Finally, the groups will present their design to the PTA and/or School Board for revie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are there shapes everywhere I look?</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would I find the area of a shape that is a combination of a triangle and a rectang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How do you classify quadrilater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Why are the area formulas for a square, rectangle, rhombus and paralellogram the same but not for the trapezo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area formulas for each type of quadrilater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o you find the area of a circ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all right triangles similar to each o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doubling the length and width of a rectangle double the area as w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increasing the radius of a circle increase the area or circumference by the same pro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will help my students develop 21</a:t>
            </a:r>
            <a:r>
              <a:rPr b="0" lang="en-US" sz="2000" spc="-1" strike="noStrike" baseline="30000">
                <a:solidFill>
                  <a:srgbClr val="000000"/>
                </a:solidFill>
                <a:latin typeface="Arial"/>
              </a:rPr>
              <a:t>st</a:t>
            </a:r>
            <a:r>
              <a:rPr b="0" lang="en-US" sz="2000" spc="-1" strike="noStrike">
                <a:solidFill>
                  <a:srgbClr val="000000"/>
                </a:solidFill>
                <a:latin typeface="Arial"/>
              </a:rPr>
              <a:t> century skills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rning and Innovative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demonstrating originality and inventiveness in wor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mmunication and collaboration</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Media and Technology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using technology to research, organize, evaluate and communicate information</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fe and Career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demonstrating initiative and creativity in a group environ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utilizing time efficiently and managing worklo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using interpersonal and problem solving skills to influence and guide others toward a go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uging Student Needs Assessment</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the Assess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determine prior knowledge and any weaknesses of geometry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 want to learn from my stu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uld like to understand level of geometry skills beyond knowing the formulas.  Can they determine the dimensions of a polygon or circle given area or perimeter constraints?  Can they determine the area or perimeter of figures that are NOT on the “formula she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ccessfully incorporate a project into my teaching and “throw away the book”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bout different types of technology my students and I can use to make math more fu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at learning can be fun and it comes in many different co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cooperate and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come more independent in their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rove upon technolog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ir math skills to a real world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chure or Power Point or b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with websites, checklists, rubr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to keep the “gifted” ones and their parents from taking over the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7:01:00Z</dcterms:created>
  <dc:creator>ealmanza</dc:creator>
  <dc:description/>
  <dc:language>en-US</dc:language>
  <cp:lastModifiedBy>ealmanza</cp:lastModifiedBy>
  <dcterms:modified xsi:type="dcterms:W3CDTF">2009-04-18T10:23:23Z</dcterms:modified>
  <cp:revision>6</cp:revision>
  <dc:subject/>
  <dc:title>Slide 1</dc:title>
</cp:coreProperties>
</file>